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D5FDD-4570-4AA7-B424-11520250A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D871B-AACB-4C16-809A-D037063A0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A78E1-52B3-4D9B-83DC-8646B76EE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305D8-BD70-4102-BDCD-BF1ECA40D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3B7FE-FCB9-4BB7-90F8-06384B32C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987FC-80A2-48EE-9E25-0434B84FD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AA4D5-0915-4EB4-87F6-BF1BF8C2D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5D52E-0B5F-4994-8AC0-E3FAF766A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B54AD-6C34-466E-8F33-3CDA46F1E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2E663-E4A0-4474-8B6E-5DA192491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23FBB-5B76-4617-821D-C39943872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ster your library card from any metro system in St. Paul to access outside the library. Your library card number becomes your password. ABC’s– antique prices, Standard &amp; Poor’s business performance, consumer h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A4217-309F-4AC6-B5ED-0AA2C3170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B02E2-A3D9-42CB-9594-62871AE60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NY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tleby quotations, Novelist, Contemporary authors, Critic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Study Center, Lands &amp; Peoples  Statesman’s Year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ionary of Scientific Biography, Science Resource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70A3A-76C8-4846-8D12-AE134F820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38390-BAF9-47C1-A834-674F19A1D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83D2B-B4BC-4D1C-B031-9D845F2EA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E3E06-1F48-4E11-B8BC-653ABA03C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year 15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databases are funded and contracted for 3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6E77C-5850-4DA0-80D5-676A7AFF7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lasssroom, masters classes, personal inte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er information, arts, current events, health, science, social science, politics,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48BF6-E906-4210-8F25-8975EA019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/7  Any computer w/internet connection --from school, home,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,000 magazines, with more than 13,000 offering full-text articles, more than 340 full-text newspapers, 15,000+ electronic books, and a worldwide catalog of more than 60 million rec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npoint the information you want. Fast. No more wading through thousands of Internet search engine results. Wh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is from reputable and respected sources. No more wondering if what you're looking at is quality inform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9E5C4-3813-48E7-9E89-755A248CD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reading level, auditory learners, text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E0872-3A28-493E-A445-42546B21F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Arial"/>
              </a:rPr>
              <a:t>Normal basic- keyword or 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Arial"/>
              </a:rPr>
              <a:t>Normal advanced search limits--publication date, resource type, ful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xile-- Basic, Intermediate, Advanced—Easy, More Difficu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11 langu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t/download/Email—but social bookmarking available—workaround for not being able to point students to webpage using Gina’s custom search en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7AA84-E853-49B6-BE27-4ED13A7B7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IP authenticated as a Minnesota resident. You may be prompted for a valid, current Minnesota public library card in order to access the ELM databa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W have not updated the individual links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CE51E-1980-4510-AB50-193FDE84E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DB5-9E63-4F1D-ADE9-CDCA0303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8CE-28CD-4CA9-A1BB-26177792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94D-C7C7-402A-A70F-9ADA224D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765-2A6A-4CA4-BD16-A5F8B96D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BE87-7D72-4D97-ADF8-57D24476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7E1B-3AEA-4EC3-A05B-62335784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E809-5978-4F48-8FCB-1CA5D10F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65B6-665B-4D1A-B4E3-259D4901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15A-31DA-40AA-AEA9-E544C879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C2FC-CFA8-4843-A7F8-F74EAF0A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9CD0-F72B-44B1-AA63-6F3C7DB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946-A838-4126-BABC-E0A9AD0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3A4A-C283-4414-8F3F-C111EF9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B094-F165-4750-8B10-0460124C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602B-BF02-4B3E-9EE2-9F5A4794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B2D2-97EC-4D0F-B22B-6A2A5FF4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1BE-401C-4821-AFAB-EBE27BC6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E0752-1D2E-440E-A8AB-6E4FB565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96D07-D3C4-4562-973F-61F8C4A4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172D4-D154-480D-B943-F2211AE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BED49-135B-4EA0-AAA6-1F314FC4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38E0F-AE07-4974-BF8A-75905B65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610-47AA-4090-BCF8-936DB0D2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6AEB9-6A74-4C42-B58E-D200E6FB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74F12-FDB1-47A8-A5CB-D879F3F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57DAC-12D7-4DA8-BC92-981AC16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06605-8EB3-4B29-AA62-F3B8DD9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B2649-A4FC-443A-BE6F-926ACF70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5F95B-631F-496F-8FBE-24AF664E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86DAE-E941-4996-B7C6-BA4896BC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4251-2D73-4397-A201-D3628139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3510-D563-446E-824A-0361A24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52CA-EEA3-416E-8083-C7AD820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284-46F9-4379-8B94-F5A49735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BD7E-7290-4FA6-9694-067F0B2A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B3A9-629D-4CBF-9935-34608626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0776-3AFB-43B2-8A3C-F08425CA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ACA0-869C-4917-ADDF-082DB8FC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72DB-762D-45D3-B0BF-7245E35E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16BD-9347-47C0-BD85-23FB172D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E268-3A2D-4BDC-AF6D-83633538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99750-59F9-40DA-8E58-354E9493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EC38-CAC9-461D-971B-1B1427B2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1F0-CC54-40F9-BC20-57E0BE6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9FF-FA16-46F8-9040-BC108D6A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7F1-8089-4CBD-8493-0C481F87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15E-BC56-4D69-9D9A-861C8880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B12-3AC8-4C76-BBFD-224775A1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C6F0A-0FDE-48BA-8194-8CD3A2B9B80F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6134C-48D7-4CF1-802F-CA32C26B95D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82BDF-2F5D-4FCA-8100-50B23D92F90E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BB1FD-23F3-411A-A13C-719E428E6FA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FA9DA-E38E-4545-B36A-EFA04765D6EC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E4E65-BDA4-4F46-8B42-3770C8B0A93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FA5C9-8077-4F64-A213-4EB483DED57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A5E2C-4C7F-4535-B485-7DF3054FECA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m4you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SIG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Ask question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Jot down database name you want to explo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Test drive BRAINPOP &amp; provide feedback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Enter “Film Strip Projector” drawing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Junior Reference Collection (6-12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5" name="Content Placeholder 4" descr="Picture 1.png"/>
          <p:cNvPicPr/>
          <p:nvPr/>
        </p:nvPicPr>
        <p:blipFill>
          <a:blip r:embed="rId1"/>
          <a:srcRect l="-21484" t="0" r="-21484" b="0"/>
          <a:stretch/>
        </p:blipFill>
        <p:spPr>
          <a:xfrm>
            <a:off x="-685800" y="182880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6553080" y="190512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 text siz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553080" y="388620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eading leve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6553080" y="510552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 typ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6553080" y="587844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ation Too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Junior Reference Collection (6-12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1" name="Content Placeholder 8" descr="Picture 2.png"/>
          <p:cNvPicPr/>
          <p:nvPr/>
        </p:nvPicPr>
        <p:blipFill>
          <a:blip r:embed="rId1"/>
          <a:srcRect l="-17239" t="0" r="-17239" b="0"/>
          <a:stretch/>
        </p:blipFill>
        <p:spPr>
          <a:xfrm>
            <a:off x="-53352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9"/>
          <p:cNvSpPr/>
          <p:nvPr/>
        </p:nvSpPr>
        <p:spPr>
          <a:xfrm>
            <a:off x="5715000" y="4495680"/>
            <a:ext cx="2971800" cy="3682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Demand Transl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5715000" y="5105520"/>
            <a:ext cx="2971800" cy="3682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/Speak Techn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9" descr="Picture 1.png"/>
          <p:cNvPicPr/>
          <p:nvPr/>
        </p:nvPicPr>
        <p:blipFill>
          <a:blip r:embed="rId1"/>
          <a:srcRect l="0" t="-28056" r="0" b="-28056"/>
          <a:stretch/>
        </p:blipFill>
        <p:spPr>
          <a:xfrm>
            <a:off x="609480" y="695160"/>
            <a:ext cx="7086600" cy="3724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foTrac Editions 6-9 and 9-12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13" descr="Picture 2.png"/>
          <p:cNvPicPr/>
          <p:nvPr/>
        </p:nvPicPr>
        <p:blipFill>
          <a:blip r:embed="rId2"/>
          <a:stretch/>
        </p:blipFill>
        <p:spPr>
          <a:xfrm>
            <a:off x="609480" y="3976560"/>
            <a:ext cx="7086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foTrac Junior Edition (6-9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8" name="Content Placeholder 3" descr="Picture 1.png"/>
          <p:cNvPicPr/>
          <p:nvPr/>
        </p:nvPicPr>
        <p:blipFill>
          <a:blip r:embed="rId1"/>
          <a:srcRect l="0" t="-25526" r="0" b="-25526"/>
          <a:stretch/>
        </p:blipFill>
        <p:spPr>
          <a:xfrm>
            <a:off x="457200" y="100980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Picture 2.png"/>
          <p:cNvPicPr/>
          <p:nvPr/>
        </p:nvPicPr>
        <p:blipFill>
          <a:blip r:embed="rId2"/>
          <a:stretch/>
        </p:blipFill>
        <p:spPr>
          <a:xfrm>
            <a:off x="3987720" y="4584600"/>
            <a:ext cx="4775400" cy="12826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1219320" y="4648320"/>
            <a:ext cx="289548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add2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Limit—Lexil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7640" y="76212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foTrac Junior Edition (6-9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Lexile reading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Content Placeholder 7" descr="Picture 1.png"/>
          <p:cNvPicPr/>
          <p:nvPr/>
        </p:nvPicPr>
        <p:blipFill>
          <a:blip r:embed="rId1"/>
          <a:srcRect l="0" t="-43405" r="0" b="-43405"/>
          <a:stretch/>
        </p:blipFill>
        <p:spPr>
          <a:xfrm>
            <a:off x="304920" y="1447920"/>
            <a:ext cx="4041720" cy="388620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11" descr="Picture 2.png"/>
          <p:cNvPicPr/>
          <p:nvPr/>
        </p:nvPicPr>
        <p:blipFill>
          <a:blip r:embed="rId2"/>
          <a:srcRect l="0" t="-27841" r="0" b="-27841"/>
          <a:stretch/>
        </p:blipFill>
        <p:spPr>
          <a:xfrm>
            <a:off x="5327640" y="2247840"/>
            <a:ext cx="313056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Text Placeholder 8"/>
          <p:cNvSpPr/>
          <p:nvPr/>
        </p:nvSpPr>
        <p:spPr>
          <a:xfrm>
            <a:off x="5029200" y="5029200"/>
            <a:ext cx="365760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Share Option—Web 2.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Text Placeholder 8"/>
          <p:cNvSpPr/>
          <p:nvPr/>
        </p:nvSpPr>
        <p:spPr>
          <a:xfrm>
            <a:off x="378000" y="46483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On Demand Trans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Text Placeholder 8"/>
          <p:cNvSpPr/>
          <p:nvPr/>
        </p:nvSpPr>
        <p:spPr>
          <a:xfrm>
            <a:off x="380880" y="53341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Read/Speak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Text Placeholder 8"/>
          <p:cNvSpPr/>
          <p:nvPr/>
        </p:nvSpPr>
        <p:spPr>
          <a:xfrm>
            <a:off x="380880" y="60199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Citation Too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5105520" y="2514600"/>
            <a:ext cx="3504960" cy="23623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ids InfoBits (K-5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1" name="Content Placeholder 3" descr="Picture 1.png"/>
          <p:cNvPicPr/>
          <p:nvPr/>
        </p:nvPicPr>
        <p:blipFill>
          <a:blip r:embed="rId1"/>
          <a:srcRect l="-5657" t="0" r="-5657" b="0"/>
          <a:stretch/>
        </p:blipFill>
        <p:spPr>
          <a:xfrm>
            <a:off x="76320" y="1600200"/>
            <a:ext cx="6235560" cy="3276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Picture 2.png"/>
          <p:cNvPicPr/>
          <p:nvPr/>
        </p:nvPicPr>
        <p:blipFill>
          <a:blip r:embed="rId2"/>
          <a:stretch/>
        </p:blipFill>
        <p:spPr>
          <a:xfrm>
            <a:off x="3657600" y="2895480"/>
            <a:ext cx="5105520" cy="29750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477000" y="5192640"/>
            <a:ext cx="1941120" cy="368280"/>
          </a:xfrm>
          <a:prstGeom prst="rect">
            <a:avLst/>
          </a:prstGeom>
          <a:solidFill>
            <a:srgbClr val="d6e9ea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Arial"/>
              </a:rPr>
              <a:t>2 Reading Leve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475200" y="5802480"/>
            <a:ext cx="2676960" cy="368280"/>
          </a:xfrm>
          <a:prstGeom prst="rect">
            <a:avLst/>
          </a:prstGeom>
          <a:solidFill>
            <a:srgbClr val="d6e9ea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Arial"/>
              </a:rPr>
              <a:t>Read/Speak Techn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6631920" y="1611360"/>
            <a:ext cx="1587240" cy="368280"/>
          </a:xfrm>
          <a:prstGeom prst="rect">
            <a:avLst/>
          </a:prstGeom>
          <a:solidFill>
            <a:srgbClr val="d6e9ea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Arial"/>
              </a:rPr>
              <a:t>Visual Searc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4456"/>
                </a:solidFill>
                <a:latin typeface="Trebuchet MS"/>
              </a:rPr>
              <a:t>CAMIO </a:t>
            </a:r>
            <a:r>
              <a:rPr b="0" lang="en-US" sz="2200" spc="-1" strike="noStrike">
                <a:solidFill>
                  <a:srgbClr val="424456"/>
                </a:solidFill>
                <a:latin typeface="Trebuchet MS"/>
              </a:rPr>
              <a:t>Images from art collections from around the world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7" name="Content Placeholder 15" descr="Picture 2.png"/>
          <p:cNvPicPr/>
          <p:nvPr/>
        </p:nvPicPr>
        <p:blipFill>
          <a:blip r:embed="rId1"/>
          <a:srcRect l="0" t="-14928" r="0" b="-14928"/>
          <a:stretch/>
        </p:blipFill>
        <p:spPr>
          <a:xfrm>
            <a:off x="457200" y="20574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90,000 imag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6 Types of ar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4 Museum collec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ludes Walker &amp; MI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ehistoric to contempora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54072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Licensed for non-commercial educational use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Print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21040" y="9907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Sculptur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2" name="Content Placeholder 9" descr="Picture 3.png"/>
          <p:cNvPicPr/>
          <p:nvPr/>
        </p:nvPicPr>
        <p:blipFill>
          <a:blip r:embed="rId1"/>
          <a:srcRect l="-8661" t="0" r="-8661" b="0"/>
          <a:stretch/>
        </p:blipFill>
        <p:spPr>
          <a:xfrm>
            <a:off x="380880" y="1523880"/>
            <a:ext cx="4041720" cy="388620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Picture 4.png"/>
          <p:cNvPicPr/>
          <p:nvPr/>
        </p:nvPicPr>
        <p:blipFill>
          <a:blip r:embed="rId2"/>
          <a:srcRect l="-12333" t="0" r="-12333" b="0"/>
          <a:stretch/>
        </p:blipFill>
        <p:spPr>
          <a:xfrm>
            <a:off x="4718160" y="1905120"/>
            <a:ext cx="4041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ublic Library Databas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Subscription databases that are “free” with your library card. Wide selection for school and personal need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mote acces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Content Placeholder 4" descr="SPL 1.png"/>
          <p:cNvPicPr/>
          <p:nvPr/>
        </p:nvPicPr>
        <p:blipFill>
          <a:blip r:embed="rId1"/>
          <a:srcRect l="0" t="-26919" r="0" b="-26919"/>
          <a:stretch/>
        </p:blipFill>
        <p:spPr>
          <a:xfrm>
            <a:off x="457200" y="1295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6" descr="Picture 1.png"/>
          <p:cNvPicPr/>
          <p:nvPr/>
        </p:nvPicPr>
        <p:blipFill>
          <a:blip r:embed="rId2"/>
          <a:srcRect l="0" t="-25686" r="0" b="-25686"/>
          <a:stretch/>
        </p:blipFill>
        <p:spPr>
          <a:xfrm>
            <a:off x="4648320" y="1295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vouring Databas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Culture Gram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SIRS Decad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Science New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ELM (Electronic Library Minnesot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467480" y="43434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Staff Developmen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October 13, 200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Kristin Siskow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Sande Lee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atabases for school u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Newspapers--NY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Books &amp; Literatu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History/Geography/Politic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Science &amp; Health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Song Index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RAIN PO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2" name="Content Placeholder 8" descr="Picture 2.png"/>
          <p:cNvPicPr/>
          <p:nvPr/>
        </p:nvPicPr>
        <p:blipFill>
          <a:blip r:embed="rId1"/>
          <a:srcRect l="-43494" t="0" r="-43494" b="0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45720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http://www.brainpop.co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SIG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Ask question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Jot down database name you want to explo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Test drive BRAINPOP &amp; provide feedback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Enter “Film Strip Projector” drawing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45820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EL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lectronic Library for Minnesota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Magazine, newspaper,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 and</a:t>
            </a: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 journal articles,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 and </a:t>
            </a: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eBooks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, information from </a:t>
            </a: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reference sources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—available to Minnesota residents at no charge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at is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457200" y="243828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2606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48 databases from five different vendor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2606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2606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Funded by state and federal tax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at can I find in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Full-text scholarly &amp; popular articl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Image, video, sound fil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Primary source docume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Reference resources-encyclopedia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eBooks &amp; tools to locate print resourc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Spanish language database(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Special features (journal &amp; search alert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Vast array of topic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y use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CONVENIE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ACCESSIBL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THOROUGH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ACCURAT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RELIABL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FRE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y you should</a:t>
            </a:r>
            <a:r>
              <a:rPr b="1" i="1" lang="en-US" sz="4000" spc="-1" strike="noStrike">
                <a:solidFill>
                  <a:srgbClr val="424456"/>
                </a:solidFill>
                <a:latin typeface="Trebuchet MS"/>
              </a:rPr>
              <a:t> really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se it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Encourages differentia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Helps create </a:t>
            </a:r>
            <a:r>
              <a:rPr b="0" i="1" lang="en-US" sz="3000" spc="-1" strike="noStrike">
                <a:solidFill>
                  <a:srgbClr val="326064"/>
                </a:solidFill>
                <a:latin typeface="Arial"/>
              </a:rPr>
              <a:t>plagiarism-proof </a:t>
            </a: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assignme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Teaches vital research skill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Media specialist anxious to team with you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Cool searching tools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Basic search- </a:t>
            </a: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visual topic tre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dvanced search limits- </a:t>
            </a: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reading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Read/speak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On Demand Translation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- Spanis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Research too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Citation t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Sharing information-</a:t>
            </a: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 Web 2.0 option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60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How do I search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www.elm4you.org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password: elm4you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CW Homepa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043"/>
                </a:solidFill>
                <a:latin typeface="Arial"/>
              </a:rPr>
              <a:t>Media Center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043"/>
                </a:solidFill>
                <a:latin typeface="Arial"/>
              </a:rPr>
              <a:t>Reference Database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043"/>
                </a:solidFill>
                <a:latin typeface="Arial"/>
              </a:rPr>
              <a:t>Select the databas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0" name="Content Placeholder 4" descr="Picture 1.png"/>
          <p:cNvPicPr/>
          <p:nvPr/>
        </p:nvPicPr>
        <p:blipFill>
          <a:blip r:embed="rId2"/>
          <a:srcRect l="0" t="-37202" r="0" b="-37202"/>
          <a:stretch/>
        </p:blipFill>
        <p:spPr>
          <a:xfrm>
            <a:off x="4648320" y="2249640"/>
            <a:ext cx="4038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41" name="Rectangular Callout 6"/>
          <p:cNvGrpSpPr/>
          <p:nvPr/>
        </p:nvGrpSpPr>
        <p:grpSpPr>
          <a:xfrm>
            <a:off x="6566040" y="4376880"/>
            <a:ext cx="1650960" cy="823680"/>
            <a:chOff x="6566040" y="4376880"/>
            <a:chExt cx="1650960" cy="823680"/>
          </a:xfrm>
        </p:grpSpPr>
        <p:pic>
          <p:nvPicPr>
            <p:cNvPr id="242" name="Rectangular Callout 6" descr=""/>
            <p:cNvPicPr/>
            <p:nvPr/>
          </p:nvPicPr>
          <p:blipFill>
            <a:blip r:embed="rId3"/>
            <a:stretch/>
          </p:blipFill>
          <p:spPr>
            <a:xfrm>
              <a:off x="6566040" y="4376880"/>
              <a:ext cx="165096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629400" y="4416480"/>
              <a:ext cx="15238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ink to all 48 databases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2:37:37Z</dcterms:created>
  <dc:creator>Sande Lee</dc:creator>
  <dc:description/>
  <dc:language>en-US</dc:language>
  <cp:lastModifiedBy>Sande Lee</cp:lastModifiedBy>
  <cp:lastPrinted>2009-10-14T15:12:07Z</cp:lastPrinted>
  <dcterms:modified xsi:type="dcterms:W3CDTF">2009-10-14T15:46:52Z</dcterms:modified>
  <cp:revision>15</cp:revision>
  <dc:subject/>
  <dc:title>CAMIO Images from art collections from around the world</dc:title>
</cp:coreProperties>
</file>